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zapvib04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C66-6745-4C23-8FA9-C3C403E0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533-2614-4CC7-A847-9E3F0F86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9D6-3E8A-4D1A-BAB5-0E9D99B0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CE1-C8DF-45EB-889A-10399DDA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BFF-D5F0-41A5-BAE6-501CD0D8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B53-43C3-40AE-A140-8AB47751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BED-AC6F-4BCE-9B95-7431CD5A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226-E834-4FBB-9200-A0BEB0E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22E-3D95-4AEB-A78A-9E1A202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EEE-0766-44E3-A49A-A5A4E06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461-CC5B-4EF0-BBAB-CF0B897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510-FC3F-4906-A5FE-0BB7194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315-8A27-4996-AE2F-330C686CF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vib04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zapvib04.wav"/><Relationship Id="rId10" Type="http://schemas.openxmlformats.org/officeDocument/2006/relationships/audio" Target="../media/zipdn10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vib04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jetflyby2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vib04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zapvib04.wav"/><Relationship Id="rId16" Type="http://schemas.openxmlformats.org/officeDocument/2006/relationships/audio" Target="../media/zipdn102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caralarmoff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decimal notation from scientific not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97000" y="1744560"/>
                <a:ext cx="3439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327480" y="1787400"/>
            <a:ext cx="423720" cy="4240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4000" y="1755720"/>
            <a:ext cx="46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sitive exponent – move the decimal to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 flipV="1" rot="16200000">
            <a:off x="1713240" y="21859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 rot="16200000">
            <a:off x="2135520" y="2168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117440" y="2759040"/>
            <a:ext cx="21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4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31920" y="3827520"/>
                <a:ext cx="34416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362400" y="3870360"/>
            <a:ext cx="423720" cy="4237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29280" y="383868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sitive exponent – move the decimal to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/>
          <p:nvPr/>
        </p:nvCxnSpPr>
        <p:spPr>
          <a:xfrm flipV="1" rot="16200000">
            <a:off x="1748160" y="42688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 rot="16200000">
            <a:off x="2170440" y="42512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152360" y="4857840"/>
            <a:ext cx="24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3,4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 flipV="1" rot="16200000">
            <a:off x="2570400" y="42591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313000" y="38242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decimal notation from scientific not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00160" y="1744560"/>
                <a:ext cx="3633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327480" y="1787400"/>
            <a:ext cx="423720" cy="4240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4000" y="1755720"/>
            <a:ext cx="46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7440" y="275904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3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0280" y="3827520"/>
                <a:ext cx="35863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62400" y="3870360"/>
            <a:ext cx="423720" cy="4237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9280" y="383868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52360" y="4857840"/>
            <a:ext cx="30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0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8386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/>
          <p:nvPr/>
        </p:nvCxnSpPr>
        <p:spPr>
          <a:xfrm flipV="1" rot="16200000">
            <a:off x="1217880" y="22114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8040" y="38322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 flipV="1" rot="16200000">
            <a:off x="1254600" y="43243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 flipV="1" rot="16200000">
            <a:off x="856080" y="4319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V="1" rot="16200000">
            <a:off x="452880" y="432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decimal notation from scientific not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97000" y="1744560"/>
                <a:ext cx="3439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355920" y="1787400"/>
            <a:ext cx="424080" cy="4240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4000" y="1755720"/>
            <a:ext cx="46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7440" y="275904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7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92240" y="3827520"/>
                <a:ext cx="3635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362400" y="3870360"/>
            <a:ext cx="423720" cy="4237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383868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2360" y="4857840"/>
            <a:ext cx="30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9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40" y="38322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V="1" rot="16200000">
            <a:off x="1254600" y="43243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 rot="16200000">
            <a:off x="856080" y="4319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 rot="16200000">
            <a:off x="1746720" y="21988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2169000" y="21812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8" name=""/>
          <p:cNvCxnSpPr/>
          <p:nvPr/>
        </p:nvCxnSpPr>
        <p:spPr>
          <a:xfrm flipV="1" rot="16200000">
            <a:off x="2583360" y="21747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 rot="16200000">
            <a:off x="2988000" y="21589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0" name=""/>
          <p:cNvCxnSpPr/>
          <p:nvPr/>
        </p:nvCxnSpPr>
        <p:spPr>
          <a:xfrm flipV="1" rot="16200000">
            <a:off x="3402360" y="21528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 rot="16200000">
            <a:off x="3818160" y="214956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2700360" y="275256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0360" y="2746440"/>
            <a:ext cx="4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2120" y="2752560"/>
            <a:ext cx="4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8960" y="1308240"/>
                <a:ext cx="28101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3,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.3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5040" y="11970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40080" y="2319480"/>
            <a:ext cx="467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large number the exponent will b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3560" y="395460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9800" y="35863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V="1" rot="16200000">
            <a:off x="2929320" y="1684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 rot="16200000">
            <a:off x="2530800" y="1679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 flipV="1" rot="16200000">
            <a:off x="2127600" y="1687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V="1" rot="16200000">
            <a:off x="1724400" y="16938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959200" y="346248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84080" y="1308240"/>
                <a:ext cx="23749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,4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8.4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5040" y="11970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305080"/>
            <a:ext cx="46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large number the exponent will b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45120" y="394020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62080" y="35719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V="1" rot="16200000">
            <a:off x="2929320" y="1684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 rot="16200000">
            <a:off x="2530800" y="1679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 flipV="1" rot="16200000">
            <a:off x="2127600" y="1687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381480" y="344808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1640" y="1312920"/>
                <a:ext cx="2424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2262240"/>
            <a:ext cx="46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umber the exponent will be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45120" y="389736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35719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98920" y="344808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 flipV="1" rot="16200000">
            <a:off x="2153160" y="1646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2" name=""/>
          <p:cNvCxnSpPr/>
          <p:nvPr/>
        </p:nvCxnSpPr>
        <p:spPr>
          <a:xfrm flipV="1" rot="16200000">
            <a:off x="2575080" y="162900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7120" y="1297080"/>
                <a:ext cx="3781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3.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2262240"/>
            <a:ext cx="46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umber the exponent will be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5120" y="389736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358632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33720" y="3462480"/>
            <a:ext cx="5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 flipV="1" rot="16200000">
            <a:off x="2117880" y="164628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 rot="16200000">
            <a:off x="2487960" y="1629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4" name=""/>
          <p:cNvCxnSpPr/>
          <p:nvPr/>
        </p:nvCxnSpPr>
        <p:spPr>
          <a:xfrm flipV="1" rot="16200000">
            <a:off x="2843640" y="16225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5" name=""/>
          <p:cNvCxnSpPr/>
          <p:nvPr/>
        </p:nvCxnSpPr>
        <p:spPr>
          <a:xfrm flipV="1" rot="16200000">
            <a:off x="3191040" y="164952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146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7, 5 – 8 #1-1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20T18:10:59Z</dcterms:modified>
  <cp:revision>62</cp:revision>
  <dc:subject/>
  <dc:title>Slide 1</dc:title>
</cp:coreProperties>
</file>